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FE1-784F-4B75-B66F-8FFB0943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057-1D1F-4D23-A2AC-EA32FAC7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D99-D283-4803-B22B-3FA054B5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6FE-00C4-458A-934D-43190152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57B2-806C-4094-8EDC-A71F7CD0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30B1-8EA8-4785-95CB-D2CDA632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8C8F-7DC2-48B1-9349-C9E701DF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454B-A9F3-49C5-BE55-9A887853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A823-01F5-4612-8C96-870055B3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BADB-2107-4F76-A8DB-0C1F2327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CB25-457C-4CB0-B8B6-4CF62020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B6D-E1E7-45F5-ACA2-B811FA54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8CB0-36F7-4479-A11A-F1B9D228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5A34-E12A-4999-B9E6-1B248764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C50D-FA23-4B12-9179-2490B84E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2237-5C5B-4A8C-81DC-9AF30031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E1A3-2897-417B-A017-9CE5B835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A565-2391-44EF-B322-7C68BD7E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D2143-AAB2-4FCC-8503-0B523182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91313-C0AE-45EB-A425-1C650ADB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B341C-AEAB-47DF-A91E-414AB545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9BB61-DCE5-44D3-9DF4-51F2510C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32F-48DE-46E9-A820-C39ED62F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715C7-F6F4-48F9-B834-C031F8BC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FC3A-7DFE-45CF-8404-6C2B2888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C10F4-C29D-469D-9773-810BA470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690C9-EA16-4DE9-BA74-24CDB7B8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CED79-AFBD-4FD9-89CB-6D9164D9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9A45E-749F-43E3-BEED-765E7E08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39762-73C3-45FA-840B-80ABFC6E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1B971-B2BA-4E82-B186-F610DB61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76FA0-A288-4EF7-9C4C-66F46A75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BD40B-8436-4B60-BC47-7E3EB5A9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FDF-A217-4A29-A443-2AE409BD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D9DCF-68F5-4241-9813-74F0B384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F01CA-4F45-4E85-B916-5BE437DC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ADAE1-5C42-47A5-B557-2CEA7A9E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12DFF-843A-4B61-9044-7A5F20F2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5372-09DF-4B8E-8394-D60B4E07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FD44E-836E-47CB-BC4B-9EA74A28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C73A9-CE30-432A-ACBD-6828090C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2103D-F930-437E-9C7A-CFDEF352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0AF57-4DEF-4493-BA3A-D1D14E57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473-6B7D-4311-9F31-6942C555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2F9-4E4A-4B21-94F9-CEFD5574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E2E-2582-42F7-BE14-C53ADC10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7F6-4BB9-40E7-9BC1-E0F2EF23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F4C-B10B-4965-BE20-4AF00B1F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77BC-DBE3-4870-9960-A80F2C56B74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B872-EF7D-46AF-B24E-CAF735BF6BD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9797-94D8-47CD-873F-4392605B07B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D433-084E-4FDF-941E-20229304E1D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j1uMvk5s3MAhVDcBoKHcy6DAAQjRwIBw&amp;url=https%3A%2F%2Fwww.mun.ca%2Fbiology%2Fscarr%2FiGen3_03-01.html&amp;psig=AFQjCNFGr1XLxnRIcVULs-3FrgoxuW5_uw&amp;ust=146291112082240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f/fb/Meselson-stahl_experiment_diagram_en.sv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5600" spc="-1" strike="noStrike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1" lang="sr-CS" sz="56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r-CS" sz="4800" spc="-1" strike="noStrike">
                <a:solidFill>
                  <a:srgbClr val="ffff00"/>
                </a:solidFill>
                <a:latin typeface="Arial"/>
                <a:ea typeface="Arial"/>
              </a:rPr>
              <a:t>РЕПЛИК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Репликација је савршено контролисана и регулисан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320" y="236232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ешке у спаривању најчешће настају због таутомерних п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ме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зотних база (прелази Н атом са једне на другу позицију унутар молекула баз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sr-RS" sz="2200" spc="-1" strike="noStrike">
                <a:solidFill>
                  <a:srgbClr val="ff0000"/>
                </a:solidFill>
                <a:latin typeface="Arial"/>
              </a:rPr>
              <a:t>, С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мино форма (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sr-Latn-R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груп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     енолни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-G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  <a:ea typeface="Arial"/>
              </a:rPr>
              <a:t>G, 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кето форма (СО група)       имино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C-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Right Arrow 1"/>
          <p:cNvSpPr/>
          <p:nvPr/>
        </p:nvSpPr>
        <p:spPr>
          <a:xfrm>
            <a:off x="3429000" y="5029200"/>
            <a:ext cx="304920" cy="46080"/>
          </a:xfrm>
          <a:prstGeom prst="rightArrow">
            <a:avLst>
              <a:gd name="adj1" fmla="val 50000"/>
              <a:gd name="adj2" fmla="val 496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ight Arrow 4"/>
          <p:cNvSpPr/>
          <p:nvPr/>
        </p:nvSpPr>
        <p:spPr>
          <a:xfrm>
            <a:off x="6172200" y="4983120"/>
            <a:ext cx="304920" cy="46080"/>
          </a:xfrm>
          <a:prstGeom prst="rightArrow">
            <a:avLst>
              <a:gd name="adj1" fmla="val 50000"/>
              <a:gd name="adj2" fmla="val 496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Right Arrow 5"/>
          <p:cNvSpPr/>
          <p:nvPr/>
        </p:nvSpPr>
        <p:spPr>
          <a:xfrm>
            <a:off x="3405240" y="6095880"/>
            <a:ext cx="304920" cy="46080"/>
          </a:xfrm>
          <a:prstGeom prst="rightArrow">
            <a:avLst>
              <a:gd name="adj1" fmla="val 50000"/>
              <a:gd name="adj2" fmla="val 496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ight Arrow 6"/>
          <p:cNvSpPr/>
          <p:nvPr/>
        </p:nvSpPr>
        <p:spPr>
          <a:xfrm flipV="1">
            <a:off x="6075360" y="6095880"/>
            <a:ext cx="304920" cy="46080"/>
          </a:xfrm>
          <a:prstGeom prst="rightArrow">
            <a:avLst>
              <a:gd name="adj1" fmla="val 50000"/>
              <a:gd name="adj2" fmla="val 496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256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Транзи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ња се пурин пурином и пиримидин пиримидином </a:t>
            </a:r>
            <a:br>
              <a:rPr sz="2400"/>
            </a:br>
            <a:r>
              <a:rPr b="1" i="1" lang="fr-FR" sz="2400" spc="-1" strike="noStrike">
                <a:solidFill>
                  <a:srgbClr val="6600ff"/>
                </a:solidFill>
                <a:latin typeface="Arial"/>
              </a:rPr>
              <a:t>Трансверзије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мења се пурин пиримиди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http://www.zoology.ubc.ca/genetics/transisverstable.gif"/>
          <p:cNvPicPr/>
          <p:nvPr/>
        </p:nvPicPr>
        <p:blipFill>
          <a:blip r:embed="rId1"/>
          <a:stretch/>
        </p:blipFill>
        <p:spPr>
          <a:xfrm>
            <a:off x="30240" y="3276720"/>
            <a:ext cx="2789280" cy="2895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www.mun.ca/biology/scarr/iGen3_07-03_Figure-Lab.jpg"/>
          <p:cNvPicPr/>
          <p:nvPr/>
        </p:nvPicPr>
        <p:blipFill>
          <a:blip r:embed="rId2"/>
          <a:stretch/>
        </p:blipFill>
        <p:spPr>
          <a:xfrm>
            <a:off x="3009960" y="299232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по гену износ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по нуклеотиду износ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0000cc"/>
                </a:solidFill>
                <a:latin typeface="Arial"/>
                <a:ea typeface="Arial"/>
              </a:rPr>
              <a:t>K</a:t>
            </a:r>
            <a:r>
              <a:rPr b="0" lang="sr-CS" sz="5000" spc="-1" strike="noStrike">
                <a:solidFill>
                  <a:srgbClr val="0000cc"/>
                </a:solidFill>
                <a:latin typeface="Arial"/>
                <a:ea typeface="Arial"/>
              </a:rPr>
              <a:t>од, кодон, антикодо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Ko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Кодон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и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Антикод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т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cc"/>
                </a:solidFill>
                <a:latin typeface="Arial"/>
                <a:ea typeface="Arial"/>
              </a:rPr>
              <a:t>Основне карактеристике кода/кодон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Универзал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ступа само мт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и кодо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кодир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к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едећ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А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G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који су означени као </a:t>
            </a:r>
            <a:r>
              <a:rPr b="1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бесмислени (нонсенс), стоп код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ницијални  </a:t>
            </a:r>
            <a:r>
              <a:rPr b="1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или старт кодо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он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Дегенеративност код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/кодо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једну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ира већи број кодона, осим триптофана и метионина које од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је само по један кодо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Одсуство преклапањ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и елементи једног кодона нису у исто време елементи другог код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13translation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</a:t>
            </a: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еплик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9640" y="2349000"/>
            <a:ext cx="8229600" cy="207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ttp://highered.mcgraw-hill.com/sites/0072437316/student_view0/chapter14/animations.html#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Репликација (удвајање) ДН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је једини познати молекул који има способност ауторепроду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се 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зи интерф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су хромозоми у деспирализованом стањ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лсон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л (1958.)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ојим експериментима показ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се репликација одвија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полуконзервативан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семиконзерватива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ч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Репликација се дешава на семиконзервативан нач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5" descr="https://www.mun.ca/biology/scarr/iGen3_03-01_Figure-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 Мезелсона и Шта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File:Meselson-stahl experiment diagram e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98800"/>
            <a:ext cx="487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Ензими репли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37124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лик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оизомер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1. Енд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з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мер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НК-полимераз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РНК полимераза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иг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360" y="9903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ликација код еукариота се дешава на више места дуж хромозома у  исто време,  у правцу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-3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чиње на самом крају лан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ReplicationBubbles"/>
          <p:cNvPicPr/>
          <p:nvPr/>
        </p:nvPicPr>
        <p:blipFill>
          <a:blip r:embed="rId1"/>
          <a:stretch/>
        </p:blipFill>
        <p:spPr>
          <a:xfrm>
            <a:off x="5562720" y="1371600"/>
            <a:ext cx="27223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у репликације претходи иницијација репли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иницијацији настаје пререпликациони комплекс (комплекс протеина који настаје на месту почетка реплика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rigi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replication3"/>
          <p:cNvPicPr/>
          <p:nvPr/>
        </p:nvPicPr>
        <p:blipFill>
          <a:blip r:embed="rId1"/>
          <a:stretch/>
        </p:blipFill>
        <p:spPr>
          <a:xfrm>
            <a:off x="4876920" y="1447920"/>
            <a:ext cx="39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4479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ликација 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е у исто време на оба ланца у правцу 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пошто су они антипаралелн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једном тече од краја ка средишту репликаци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љушке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другом од средишта ка крају репликационе виљу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DNArep1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воде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ланцу - Примаз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остају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ланц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газ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а повез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Оказакијев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агмен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Enzymes%20at%20Replication%20Fork"/>
          <p:cNvPicPr/>
          <p:nvPr/>
        </p:nvPicPr>
        <p:blipFill>
          <a:blip r:embed="rId1"/>
          <a:stretch/>
        </p:blipFill>
        <p:spPr>
          <a:xfrm>
            <a:off x="2819520" y="1860480"/>
            <a:ext cx="61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Ryzen</cp:lastModifiedBy>
  <dcterms:modified xsi:type="dcterms:W3CDTF">2022-08-22T09:57:29Z</dcterms:modified>
  <cp:revision>102</cp:revision>
  <dc:subject/>
  <dc:title>2-Humani genom</dc:title>
</cp:coreProperties>
</file>